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F13-543E-4299-88D9-26AAFE9A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634-D2A1-4934-AEA0-66CEB1FA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C6E-96FC-49BC-9042-0371AE3A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838-FD2C-423E-8D38-22F1CEED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862-4DE1-4CB9-87F2-3A6E9AEC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2A7-7743-450F-9AA9-DCE55BD0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41E-71D4-445A-B7AC-9F5FE763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838-548F-483A-A39D-8C82A538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EB5-14B5-4DDC-B1DE-9A80D0B4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3BD-FB6C-484E-8B28-998F4621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11F6-630C-4D68-BBC1-873F2732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E50-9EBA-43D3-B4BD-E08DC724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6E26-6FEA-44C3-AB95-180A0B9FF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n.wikipedia.org/wiki/The_Burial_of_the_Count_of_Orgaz" TargetMode="External"/><Relationship Id="rId3" Type="http://schemas.openxmlformats.org/officeDocument/2006/relationships/hyperlink" Target="http://en.wikipedia.org/wiki/View_of_Toledo" TargetMode="External"/><Relationship Id="rId4" Type="http://schemas.openxmlformats.org/officeDocument/2006/relationships/hyperlink" Target="http://www.angel-art-house.com/oil_paintings_artists/e/El_Greco/Apostle_St_James_the_Greater_161014.ht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en.wikipedia.org/wiki/Las_Meninas" TargetMode="External"/><Relationship Id="rId3" Type="http://schemas.openxmlformats.org/officeDocument/2006/relationships/hyperlink" Target="http://en.wikipedia.org/wiki/Philip_IV_of_Spain" TargetMode="External"/><Relationship Id="rId4" Type="http://schemas.openxmlformats.org/officeDocument/2006/relationships/hyperlink" Target="http://en.wikipedia.org/wiki/Snapshot_%28photography%29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intores esp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35320" y="544680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atative Rose- D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05120" y="380880"/>
            <a:ext cx="777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lvador Dalí (1904-198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en.wikipedia.org/wiki/Salvador_Dal%C3%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í- Les Eleph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1046160"/>
            <a:ext cx="64008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6080" y="538200"/>
            <a:ext cx="62996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 Greco (1541-161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_Burial_of_the_Count_of_Orga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iew_of_Tole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t. Ja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án (1560-16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1062000"/>
            <a:ext cx="678168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2286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ego Velázquez (1599-166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Las_Meni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shows a large room in the Madrid palace of King </a:t>
            </a:r>
            <a:r>
              <a:rPr b="0" lang="en-US" sz="2400" spc="-1" strike="noStrike" u="sng" baseline="30000">
                <a:solidFill>
                  <a:srgbClr val="009999"/>
                </a:solidFill>
                <a:uFillTx/>
                <a:latin typeface="Arial"/>
                <a:hlinkClick r:id="rId3"/>
              </a:rPr>
              <a:t>Philip IV of Spai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, and presents several figures, most identifiable from the Spanish court, captured, according to some commentators, in a particular moment as if in a </a:t>
            </a:r>
            <a:r>
              <a:rPr b="0" lang="en-US" sz="2400" spc="-1" strike="noStrike" u="sng" baseline="30000">
                <a:solidFill>
                  <a:srgbClr val="009999"/>
                </a:solidFill>
                <a:uFillTx/>
                <a:latin typeface="Arial"/>
                <a:hlinkClick r:id="rId4"/>
              </a:rPr>
              <a:t>snapsho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. The young Infanta Margarita is surrounded by her entourage of maids of honour, chaperone, bodyguard, two dwarfs and a dog. Just behind them, Velázquez portrays himself working at a large canv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ázquez- An Old Woman Cooking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1392120"/>
            <a:ext cx="647712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ncisco de Goy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746-1828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family of Charles IV 1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3720" y="1600200"/>
            <a:ext cx="5416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228600"/>
            <a:ext cx="723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ya- The Third of May 18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eeweems.com/goya/3rd_of_ma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304920"/>
            <a:ext cx="685800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cc00"/>
                </a:solidFill>
                <a:latin typeface="Arial"/>
              </a:rPr>
              <a:t>Pablo Picasso (1881-197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abcgallery.com/P/picasso/picass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- 3 Music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2160" y="1600200"/>
            <a:ext cx="4819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5:50:17Z</dcterms:created>
  <dc:creator>jbarber</dc:creator>
  <dc:description/>
  <dc:language>en-US</dc:language>
  <cp:lastModifiedBy>jbarber</cp:lastModifiedBy>
  <dcterms:modified xsi:type="dcterms:W3CDTF">2009-06-03T13:31:36Z</dcterms:modified>
  <cp:revision>16</cp:revision>
  <dc:subject/>
  <dc:title>Los pintores españoles</dc:title>
</cp:coreProperties>
</file>